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5A5-33F7-4E3D-8F72-0DC2AB33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543B-D9C4-4268-8CB7-1B187179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736-DAE3-4A58-AB88-75F1FB91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A3C-92E5-47B1-ACF8-7B0F4AC8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774-8EC7-4B6F-9F9A-BA593D48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00F-F25E-4249-ACB3-D0BA92EB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F56-B133-4256-A0EC-592694C5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824-F798-44C0-B3C5-B03E8689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0F9-ABB1-4AE0-8808-3938C711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CD2-4C6F-4466-84B8-B6113149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B7B-8FC1-497E-990C-B515AE06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82B-D9AF-4D9B-9FB9-BD909AA1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3682-0F72-4679-BDFB-8DC02F2A0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971800" y="1784520"/>
            <a:ext cx="2795760" cy="3178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838080" y="685800"/>
            <a:ext cx="2743200" cy="703440"/>
          </a:xfrm>
          <a:prstGeom prst="rect">
            <a:avLst/>
          </a:prstGeom>
          <a:solidFill>
            <a:srgbClr val="f79646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ight bl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952880" y="609480"/>
            <a:ext cx="3200400" cy="703440"/>
          </a:xfrm>
          <a:prstGeom prst="rect">
            <a:avLst/>
          </a:prstGeom>
          <a:solidFill>
            <a:srgbClr val="f79646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g oval ey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33520" y="5334120"/>
            <a:ext cx="4114800" cy="1312920"/>
          </a:xfrm>
          <a:prstGeom prst="rect">
            <a:avLst/>
          </a:prstGeom>
          <a:solidFill>
            <a:srgbClr val="f79646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inty triangular ea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kcs user\Local Settings\Temporary Internet Files\Content.IE5\VZ6T1Y9F\MCj04174560000[1].wmf"/>
          <p:cNvPicPr/>
          <p:nvPr/>
        </p:nvPicPr>
        <p:blipFill>
          <a:blip r:embed="rId1"/>
          <a:stretch/>
        </p:blipFill>
        <p:spPr>
          <a:xfrm>
            <a:off x="2666880" y="1143000"/>
            <a:ext cx="33861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Documents and Settings\kcs user\Local Settings\Temporary Internet Files\Content.IE5\RCB2BMQU\MCj03607920000[1].wmf"/>
          <p:cNvPicPr/>
          <p:nvPr/>
        </p:nvPicPr>
        <p:blipFill>
          <a:blip r:embed="rId1"/>
          <a:stretch/>
        </p:blipFill>
        <p:spPr>
          <a:xfrm>
            <a:off x="2514600" y="930240"/>
            <a:ext cx="373392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kcs user\Local Settings\Temporary Internet Files\Content.IE5\RCB2BMQU\MCj04321610000[1].wmf"/>
          <p:cNvPicPr/>
          <p:nvPr/>
        </p:nvPicPr>
        <p:blipFill>
          <a:blip r:embed="rId1"/>
          <a:stretch/>
        </p:blipFill>
        <p:spPr>
          <a:xfrm>
            <a:off x="3124080" y="914400"/>
            <a:ext cx="23209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kcs user\Local Settings\Temporary Internet Files\Content.IE5\I71VTAVR\MCj01408990000[1].wmf"/>
          <p:cNvPicPr/>
          <p:nvPr/>
        </p:nvPicPr>
        <p:blipFill>
          <a:blip r:embed="rId1"/>
          <a:stretch/>
        </p:blipFill>
        <p:spPr>
          <a:xfrm>
            <a:off x="2438280" y="1371600"/>
            <a:ext cx="40863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kcs user\Local Settings\Temporary Internet Files\Content.IE5\VZ6T1Y9F\MCj01160360000[1].wmf"/>
          <p:cNvPicPr/>
          <p:nvPr/>
        </p:nvPicPr>
        <p:blipFill>
          <a:blip r:embed="rId1"/>
          <a:stretch/>
        </p:blipFill>
        <p:spPr>
          <a:xfrm>
            <a:off x="2133720" y="1447920"/>
            <a:ext cx="50688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0:08:38Z</dcterms:created>
  <dc:creator>Shady Brook</dc:creator>
  <dc:description/>
  <dc:language>en-US</dc:language>
  <cp:lastModifiedBy>Shady Brook</cp:lastModifiedBy>
  <dcterms:modified xsi:type="dcterms:W3CDTF">2008-01-29T20:20:42Z</dcterms:modified>
  <cp:revision>2</cp:revision>
  <dc:subject/>
  <dc:title>Slide 1</dc:title>
</cp:coreProperties>
</file>